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3754-5000-4690-B61B-7DFFC13D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40F4-3B11-4F8A-9FF2-67BECE8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9053-68D6-43F0-AD41-C775982C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91B3-4893-4DA8-A91E-79F317E4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E3BF-F071-4375-9141-D29FE282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8566-871A-4442-B353-D441DDD7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FD33-4C13-4FF6-B2BA-DC1F0885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225C-019C-4D8F-A979-EFBCFD2B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5E3F-FD34-40E6-B0D4-0357B00C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8143-9595-44D4-B359-11886268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38D2-CB61-4D76-A1A5-347647A1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D138-726C-4297-B909-143C3D9B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B3BD-7FDC-44B3-A6D7-2868663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F132-51AD-4254-9DA8-E1B873F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DAD-D830-4D1D-8621-5133B1B6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ED31-2616-4069-820A-2DC2810F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2A09-B337-409F-802D-998512EA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AE17-204F-4775-9F51-10EDE90C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69E2-9EAB-4A46-993B-4291501D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4F35-25E2-4649-8C9A-708193F2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7920-7A72-44F4-B9F7-22435F28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B47C-3950-46EE-89CB-80772235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CB99-7AA9-4633-B7B8-5E907D20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7549-FBBE-4F4B-8623-9572289B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2C8C-A9DD-4630-95EE-F955E7E80D9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1575-D42C-4F53-88CE-96AAB3A480D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283680"/>
            <a:ext cx="11279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та върховна вол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 от всич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ме лиш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едно се само мол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уй ме, Боже, утеши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сърце ми да пита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 доволен и смир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е тих, да не ропта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ред бурите - засмя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85500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ми сила, дай ми ревност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ловерен съм и слаб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могни ми и във вечно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пребъда аз Твой раб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а сладката надежд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че аз съм Тв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по-близо ме завежд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 Теб и Твоя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2-26T10:17:17Z</dcterms:modified>
  <cp:revision>30</cp:revision>
  <dc:subject/>
  <dc:title>Slide 1</dc:title>
</cp:coreProperties>
</file>